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2 March 2006 – Page </a:t>
            </a:r>
            <a:fld id="{35EA1F20-89FE-495C-A306-6DEAB68FFB95}" type="slidenum">
              <a:rPr b="0" lang="en-US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Primavera – Training Concep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"/>
          <p:cNvSpPr/>
          <p:nvPr/>
        </p:nvSpPr>
        <p:spPr>
          <a:xfrm>
            <a:off x="409680" y="4981680"/>
            <a:ext cx="509904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 March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35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151920"/>
            <a:ext cx="72835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Improved Training Concept (7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836640"/>
            <a:ext cx="871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rimavera Suppo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9280" y="1330200"/>
          <a:ext cx="8785440" cy="2605320"/>
        </p:xfrm>
        <a:graphic>
          <a:graphicData uri="http://schemas.openxmlformats.org/drawingml/2006/table">
            <a:tbl>
              <a:tblPr/>
              <a:tblGrid>
                <a:gridCol w="1584360"/>
                <a:gridCol w="3745080"/>
                <a:gridCol w="1150920"/>
                <a:gridCol w="1152360"/>
                <a:gridCol w="1152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urpose / 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imavera Suppor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ing supporters in relevant su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ecure that supporters can continue supporting the users of Prima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.g.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ew features and more detailed knowledge about Prima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upporter role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xchange of experi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s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 hour -&gt;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when needed/ reques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 Off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and/or exter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7138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Current Training Statu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Planning and Tracking with Primavera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9280" y="1330200"/>
          <a:ext cx="8785440" cy="1144800"/>
        </p:xfrm>
        <a:graphic>
          <a:graphicData uri="http://schemas.openxmlformats.org/drawingml/2006/table">
            <a:tbl>
              <a:tblPr/>
              <a:tblGrid>
                <a:gridCol w="1584360"/>
                <a:gridCol w="3529080"/>
                <a:gridCol w="1224000"/>
                <a:gridCol w="1150920"/>
                <a:gridCol w="1297080"/>
              </a:tblGrid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 Lea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Minion"/>
                          <a:ea typeface="文鼎中黑"/>
                        </a:rPr>
                        <a:t>Introduction to the Time To Market Methodology at BenQ Mobile Ph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000000"/>
                          </a:solidFill>
                          <a:latin typeface="Minion"/>
                          <a:ea typeface="文鼎中黑"/>
                        </a:rPr>
                        <a:t>Planning and tracking projects by use of Prima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 Off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79280" y="2770200"/>
            <a:ext cx="87138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ollection of Actuals</a:t>
            </a:r>
            <a:r>
              <a:rPr b="0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9280" y="3192480"/>
          <a:ext cx="8785440" cy="1326960"/>
        </p:xfrm>
        <a:graphic>
          <a:graphicData uri="http://schemas.openxmlformats.org/drawingml/2006/table">
            <a:tbl>
              <a:tblPr/>
              <a:tblGrid>
                <a:gridCol w="1584360"/>
                <a:gridCol w="3529080"/>
                <a:gridCol w="1224000"/>
                <a:gridCol w="1150920"/>
                <a:gridCol w="1297080"/>
              </a:tblGrid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ive feedback to project planning regarding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 are able to use Primavera Timesheets for collection of hours spent on project activ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 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cal Suppo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71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Improved Training Concept - Overview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560" y="692280"/>
            <a:ext cx="4645080" cy="51004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 fontScale="96000"/>
          </a:bodyPr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Subjec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rimavera Project Manage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rimavera Timesheet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Target group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roject manager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Line manager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Timesheet Approval Manager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Resour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Supporter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Suggested trainings to be be offered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L Basic Primavera Train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L Primavera Worksho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LT Master Plan Worksho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Timeshee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Timesheet Approval Manager 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Line manager 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90480" indent="-2592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rimavera Support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640" y="80640"/>
            <a:ext cx="878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Improved Training Concept (1)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PL Basic Primavera Training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9280" y="1330200"/>
          <a:ext cx="8785440" cy="2860920"/>
        </p:xfrm>
        <a:graphic>
          <a:graphicData uri="http://schemas.openxmlformats.org/drawingml/2006/table">
            <a:tbl>
              <a:tblPr/>
              <a:tblGrid>
                <a:gridCol w="1584360"/>
                <a:gridCol w="3745080"/>
                <a:gridCol w="1150920"/>
                <a:gridCol w="1152360"/>
                <a:gridCol w="1152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urpose / 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 Lea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o Primavera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nowled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ill be PL in near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u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ave read the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anagement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verview of the concept at BenQ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sic understanding of the Methods and the t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 and tracking projects by use of Prima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eed to know in Primavera to plan and track a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 management method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 planning – time and resource re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 execution and tra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nalysis and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imavera user interface 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ing c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regularly e.g. once a quarter at each loc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cal Suppo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 Off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640" y="151920"/>
            <a:ext cx="72118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Improved Training Concept (2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836640"/>
            <a:ext cx="871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 Primavera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9280" y="1330200"/>
          <a:ext cx="8785440" cy="3043440"/>
        </p:xfrm>
        <a:graphic>
          <a:graphicData uri="http://schemas.openxmlformats.org/drawingml/2006/table">
            <a:tbl>
              <a:tblPr/>
              <a:tblGrid>
                <a:gridCol w="1584360"/>
                <a:gridCol w="3745080"/>
                <a:gridCol w="1150920"/>
                <a:gridCol w="1152360"/>
                <a:gridCol w="1152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urpose / 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 Lea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ave participated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 PL Basic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imavera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ading ongoing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ave read the 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anagement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ive PL knowledge about their responsibility, rules and what to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daily use of Prima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eekly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 assignment and tra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im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1843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ritical Path and how to stay on 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1843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s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-g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shop with questions about daily use of Primavera from 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s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regularly e.g. once a quarter at each loc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cal Suppo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 Off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151920"/>
            <a:ext cx="72118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Improved Training Concept (3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836640"/>
            <a:ext cx="871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T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9280" y="1330200"/>
          <a:ext cx="8785440" cy="3302280"/>
        </p:xfrm>
        <a:graphic>
          <a:graphicData uri="http://schemas.openxmlformats.org/drawingml/2006/table">
            <a:tbl>
              <a:tblPr/>
              <a:tblGrid>
                <a:gridCol w="1584360"/>
                <a:gridCol w="3745080"/>
                <a:gridCol w="1150920"/>
                <a:gridCol w="1152360"/>
                <a:gridCol w="1152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urpose / 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ading ongoing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ave read the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anagement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sic use of Prima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ive PLT knowledge about their responsibility, rules and what to d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Use of Master Pla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9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daily use of Prima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Use of PLT Master P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ritical path and how to stay on 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im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1843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chedu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1843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ol milest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-g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s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orks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½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when need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cal Suppo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 Off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640" y="151920"/>
            <a:ext cx="72118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Improved Training Concept (4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836640"/>
            <a:ext cx="871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rimavera Timeshe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330200"/>
          <a:ext cx="8785440" cy="1947960"/>
        </p:xfrm>
        <a:graphic>
          <a:graphicData uri="http://schemas.openxmlformats.org/drawingml/2006/table">
            <a:tbl>
              <a:tblPr/>
              <a:tblGrid>
                <a:gridCol w="1584360"/>
                <a:gridCol w="3745080"/>
                <a:gridCol w="1150920"/>
                <a:gridCol w="1152360"/>
                <a:gridCol w="1152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urpose / 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troduction to Primavera Timesheets for collection of hours spent on project activities, progress feedback, and processing of collected hou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 Management at BenQ mo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llection of actuals (hours spent) with Timeshe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gress feedback (dat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eekly 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c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 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regularly e.g. once a month at each loc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cal Suppo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151920"/>
            <a:ext cx="72835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Improved Training Concept (5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836640"/>
            <a:ext cx="871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imesheet Approval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1330200"/>
          <a:ext cx="8785440" cy="2386080"/>
        </p:xfrm>
        <a:graphic>
          <a:graphicData uri="http://schemas.openxmlformats.org/drawingml/2006/table">
            <a:tbl>
              <a:tblPr/>
              <a:tblGrid>
                <a:gridCol w="1584360"/>
                <a:gridCol w="3745080"/>
                <a:gridCol w="1150920"/>
                <a:gridCol w="1152360"/>
                <a:gridCol w="1152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urpose / 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imesheet Approval Mana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ive Timesheet Approval Manager knowledge about their responsibility, rules and what to do in Prima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eekly update 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llection of actuals in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ponsib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imesheet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aintain resource calend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ow to be substitut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 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when need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cal Suppo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51920"/>
            <a:ext cx="72835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Improved Training Concept (6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836640"/>
            <a:ext cx="871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Line Manager 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9280" y="1330200"/>
          <a:ext cx="8785440" cy="2641680"/>
        </p:xfrm>
        <a:graphic>
          <a:graphicData uri="http://schemas.openxmlformats.org/drawingml/2006/table">
            <a:tbl>
              <a:tblPr/>
              <a:tblGrid>
                <a:gridCol w="1584360"/>
                <a:gridCol w="3745080"/>
                <a:gridCol w="1150920"/>
                <a:gridCol w="1152360"/>
                <a:gridCol w="1152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urpose / Cont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ne Mana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-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ave read the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anagement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	</a:t>
                      </a: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verview of line manager responsibility, rules and what to do and find in Primaver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sic overview of the project management 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ation with PM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ews and relevant su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hat to do in Prima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 tree maintenan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imesheet approval proced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cking Resource load e.g. with Tracking 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greement with PL’s about 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 h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(when needed/ request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ocal Suppo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3600" indent="-93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Minio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 Off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8:45:11Z</dcterms:created>
  <dc:creator>Reinholdt Hansen</dc:creator>
  <dc:description/>
  <dc:language>en-US</dc:language>
  <cp:lastModifiedBy>Reinholdt Hansen</cp:lastModifiedBy>
  <dcterms:modified xsi:type="dcterms:W3CDTF">2006-04-19T11:26:59Z</dcterms:modified>
  <cp:revision>24</cp:revision>
  <dc:subject/>
  <dc:title>Primavera – Training Concept</dc:title>
</cp:coreProperties>
</file>